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9C1-37DD-4ED1-A55B-B3EA745E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B05-3EC1-4A8F-B4DB-21FB0F3B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187-2494-40D3-800D-1659F462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89C-5E28-48FC-AB8B-7067B7A5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A07-B60E-4056-9187-1ABC7E7F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365-72CB-4DA1-A127-EE7BAE99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117-3576-4920-929C-0D1AA95D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A72-9A64-4942-B2B4-5C6B0F7A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310-4C76-403B-89BC-CE0E474B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170-8AFC-4EDC-9B4E-BD8B7D8A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D0F-B333-4E41-9FD8-CF9719C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4E5-1F30-4B0D-A7CD-DE7C58E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a Faith Dot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a Miss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ea Missy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ea Missy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ea Missy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39A9-D934-4A20-8CCC-A8A9DC66E369}" type="slidenum">
              <a:rPr b="0" lang="en-US" sz="1200" spc="-1" strike="noStrike">
                <a:solidFill>
                  <a:srgbClr val="898989"/>
                </a:solidFill>
                <a:latin typeface="Pea Miss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Pea Faith Dots"/>
              </a:rPr>
              <a:t>Solar System Unit Review</a:t>
            </a:r>
            <a:endParaRPr b="0" lang="en-US" sz="72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Pea Missy"/>
              </a:rPr>
              <a:t>Test Date: April 9, 2010</a:t>
            </a:r>
            <a:endParaRPr b="0" lang="en-US" sz="32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www.science.uwaterloo.ca/~cchieh/cact/fig/planets.jpg"/>
          <p:cNvPicPr/>
          <p:nvPr/>
        </p:nvPicPr>
        <p:blipFill>
          <a:blip r:embed="rId1"/>
          <a:srcRect l="0" t="0" r="11657" b="15595"/>
          <a:stretch/>
        </p:blipFill>
        <p:spPr>
          <a:xfrm>
            <a:off x="914400" y="2514600"/>
            <a:ext cx="6705720" cy="4038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2514600" y="457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Pea Faith Dots"/>
              </a:rPr>
              <a:t>Our Solar System</a:t>
            </a:r>
            <a:endParaRPr b="0" lang="en-US" sz="54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914400" y="1371600"/>
            <a:ext cx="75438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a Missy"/>
              </a:rPr>
              <a:t>The Sun is at the center of our solar system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Pea Missy"/>
              </a:rPr>
              <a:t>The planets orbit, or revolve, around the sun.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a Missy"/>
              </a:rPr>
              <a:t>Be sure you can label the planets in order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a Missy"/>
              </a:rPr>
              <a:t>Click on the link below to study vocabulary definitions on Quizlet.</a:t>
            </a:r>
            <a:endParaRPr b="0" lang="en-US" sz="2000" spc="-1" strike="noStrike">
              <a:solidFill>
                <a:srgbClr val="000000"/>
              </a:solidFill>
              <a:latin typeface="Pea Faith Dots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838080" y="289548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a Faith Dots"/>
              </a:rPr>
              <a:t>Solar System Flashcards</a:t>
            </a:r>
            <a:endParaRPr b="0" lang="en-US" sz="66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rookhillprimary.org/Shadow%201.JPG"/>
          <p:cNvPicPr/>
          <p:nvPr/>
        </p:nvPicPr>
        <p:blipFill>
          <a:blip r:embed="rId1"/>
          <a:stretch/>
        </p:blipFill>
        <p:spPr>
          <a:xfrm>
            <a:off x="1676520" y="304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786760" y="685800"/>
            <a:ext cx="4885200" cy="1434600"/>
          </a:xfrm>
          <a:prstGeom prst="rect">
            <a:avLst/>
          </a:prstGeom>
          <a:noFill/>
          <a:ln w="0">
            <a:noFill/>
          </a:ln>
          <a:effectLst>
            <a:outerShdw dist="38183" dir="135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f0"/>
                </a:solidFill>
                <a:latin typeface="Pea Faith Dots"/>
              </a:rPr>
              <a:t>Shadows</a:t>
            </a:r>
            <a:endParaRPr b="0" lang="en-US" sz="8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80880" y="2514600"/>
            <a:ext cx="8382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In the morning, when the sun is rising in the EAST __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, our shadows fac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WEST.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In the afternoon, when the sun is setting in the WEST</a:t>
            </a:r>
            <a:r>
              <a:rPr b="0" lang="en-US" sz="1800" spc="-1" strike="noStrike">
                <a:solidFill>
                  <a:srgbClr val="00b0f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, our shadows face EAST </a:t>
            </a:r>
            <a:r>
              <a:rPr b="0" lang="en-US" sz="1800" spc="-1" strike="noStrike">
                <a:solidFill>
                  <a:srgbClr val="00b0f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Our shadows are </a:t>
            </a:r>
            <a:r>
              <a:rPr b="1" lang="en-US" sz="1800" spc="-1" strike="noStrike">
                <a:solidFill>
                  <a:srgbClr val="ff0000"/>
                </a:solidFill>
                <a:latin typeface="Pea Missy"/>
              </a:rPr>
              <a:t>longest</a:t>
            </a: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 in the early morning and late afternoon, when the sun’s rays hit the Earth at more of an angle.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Our shadows are </a:t>
            </a:r>
            <a:r>
              <a:rPr b="1" lang="en-US" sz="1800" spc="-1" strike="noStrike">
                <a:solidFill>
                  <a:srgbClr val="00b0f0"/>
                </a:solidFill>
                <a:latin typeface="Pea Missy"/>
              </a:rPr>
              <a:t>shortest</a:t>
            </a: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 at </a:t>
            </a:r>
            <a:r>
              <a:rPr b="1" lang="en-US" sz="1800" spc="-1" strike="noStrike">
                <a:solidFill>
                  <a:srgbClr val="00b0f0"/>
                </a:solidFill>
                <a:latin typeface="Pea Missy"/>
              </a:rPr>
              <a:t>noon</a:t>
            </a:r>
            <a:r>
              <a:rPr b="0" lang="en-US" sz="1800" spc="-1" strike="noStrike">
                <a:solidFill>
                  <a:srgbClr val="00b0f0"/>
                </a:solidFill>
                <a:latin typeface="Pea Missy"/>
              </a:rPr>
              <a:t>, when the sun’s rays are most direct.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04920" y="4800600"/>
            <a:ext cx="4800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a Faith Dots"/>
              </a:rPr>
              <a:t>Moon Challenge</a:t>
            </a:r>
            <a:endParaRPr b="0" lang="en-US" sz="44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a Missy"/>
              </a:rPr>
              <a:t>Do the moon challenge by clicking on this link: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a Missy"/>
              </a:rPr>
              <a:t>Moon Challenge</a:t>
            </a: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14880" y="152280"/>
            <a:ext cx="45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ea Faith Dots"/>
              </a:rPr>
              <a:t>The Moon</a:t>
            </a:r>
            <a:endParaRPr b="0" lang="en-US" sz="7200" spc="-1" strike="noStrike">
              <a:solidFill>
                <a:srgbClr val="000000"/>
              </a:solidFill>
              <a:latin typeface="Pea Missy"/>
            </a:endParaRPr>
          </a:p>
        </p:txBody>
      </p:sp>
      <p:pic>
        <p:nvPicPr>
          <p:cNvPr id="53" name="Picture 2" descr="http://scienceblogs.com/startswithabang/upload/2010/01/a_moon-stravaganza/moon_phases.jpg"/>
          <p:cNvPicPr/>
          <p:nvPr/>
        </p:nvPicPr>
        <p:blipFill>
          <a:blip r:embed="rId1"/>
          <a:stretch/>
        </p:blipFill>
        <p:spPr>
          <a:xfrm>
            <a:off x="304920" y="10666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334120" y="568440"/>
            <a:ext cx="3200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Pea Missy"/>
              </a:rPr>
              <a:t>The moon’s light comes from the sun’s reflection off of the moon’s surface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Pea Missy"/>
              </a:rPr>
              <a:t>The moon’s phases are caused by the moon’s revolving around the Earth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Pea Missy"/>
              </a:rPr>
              <a:t>The moon rotates on its axis. It takes approx. 29 days to make one full rotation on its axis, and one full revolution around the Earth.</a:t>
            </a:r>
            <a:endParaRPr b="0" lang="en-US" sz="16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371600" y="91440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ea Faith Dots"/>
              </a:rPr>
              <a:t>Rotation vs. Revolution</a:t>
            </a:r>
            <a:endParaRPr b="0" lang="en-US" sz="60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28600" y="3733920"/>
            <a:ext cx="34290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Pea Missy"/>
              </a:rPr>
              <a:t>It takes the Earth 24 hours to make one full rotation on its axi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f0"/>
                </a:solidFill>
                <a:latin typeface="Pea Missy"/>
              </a:rPr>
              <a:t>Day and night are caused by Earth’s rotation on its axi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Pea Missy"/>
              </a:rPr>
              <a:t>The Earth rotates east</a:t>
            </a:r>
            <a:r>
              <a:rPr b="0" lang="en-US" sz="15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ff0000"/>
                </a:solidFill>
                <a:latin typeface="Pea Missy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724280" y="3733920"/>
            <a:ext cx="419112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ea Missy"/>
              </a:rPr>
              <a:t>It takes the Earth approx. 365 days for the Earth to make one full revolution around the sun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030a0"/>
                </a:solidFill>
                <a:latin typeface="Pea Missy"/>
              </a:rPr>
              <a:t>The Earth orbits east</a:t>
            </a:r>
            <a:r>
              <a:rPr b="0" lang="en-US" sz="15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7030a0"/>
                </a:solidFill>
                <a:latin typeface="Pea Missy"/>
              </a:rPr>
              <a:t> around the sun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ea Missy"/>
              </a:rPr>
              <a:t>The tilt of the Earth and the Earth’s location in its revolution around the Sun cause the season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0" y="533520"/>
            <a:ext cx="3733920" cy="2883240"/>
            <a:chOff x="0" y="533520"/>
            <a:chExt cx="3733920" cy="2883240"/>
          </a:xfrm>
        </p:grpSpPr>
        <p:pic>
          <p:nvPicPr>
            <p:cNvPr id="59" name="Picture 2" descr="http://evolutionarypathwayves.files.wordpress.com/2008/10/earth_rotation.jpg"/>
            <p:cNvPicPr/>
            <p:nvPr/>
          </p:nvPicPr>
          <p:blipFill>
            <a:blip r:embed="rId1"/>
            <a:stretch/>
          </p:blipFill>
          <p:spPr>
            <a:xfrm>
              <a:off x="380880" y="533520"/>
              <a:ext cx="1841400" cy="23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6"/>
            <p:cNvSpPr/>
            <p:nvPr/>
          </p:nvSpPr>
          <p:spPr>
            <a:xfrm>
              <a:off x="0" y="2896560"/>
              <a:ext cx="373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ea Missy"/>
                </a:rPr>
                <a:t>This is a picture of the Earth rotating on its axis.</a:t>
              </a:r>
              <a:endParaRPr b="0" lang="en-US" sz="1400" spc="-1" strike="noStrike">
                <a:solidFill>
                  <a:srgbClr val="000000"/>
                </a:solidFill>
                <a:latin typeface="Pea Missy"/>
              </a:endParaRPr>
            </a:p>
          </p:txBody>
        </p:sp>
      </p:grpSp>
      <p:grpSp>
        <p:nvGrpSpPr>
          <p:cNvPr id="61" name="Group 10"/>
          <p:cNvGrpSpPr/>
          <p:nvPr/>
        </p:nvGrpSpPr>
        <p:grpSpPr>
          <a:xfrm>
            <a:off x="5334120" y="228600"/>
            <a:ext cx="3616200" cy="3552840"/>
            <a:chOff x="5334120" y="228600"/>
            <a:chExt cx="3616200" cy="3552840"/>
          </a:xfrm>
        </p:grpSpPr>
        <p:pic>
          <p:nvPicPr>
            <p:cNvPr id="62" name="Picture 4" descr="http://www.learner.org/jnorth/images/imageshtml/earth-tilt.gif"/>
            <p:cNvPicPr/>
            <p:nvPr/>
          </p:nvPicPr>
          <p:blipFill>
            <a:blip r:embed="rId2"/>
            <a:stretch/>
          </p:blipFill>
          <p:spPr>
            <a:xfrm>
              <a:off x="5334120" y="228600"/>
              <a:ext cx="3543120" cy="28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9"/>
            <p:cNvSpPr/>
            <p:nvPr/>
          </p:nvSpPr>
          <p:spPr>
            <a:xfrm>
              <a:off x="5334120" y="3048120"/>
              <a:ext cx="3616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ea Missy"/>
                </a:rPr>
                <a:t>This is a picture of the Earth revolving around the sun. </a:t>
              </a:r>
              <a:endParaRPr b="0" lang="en-US" sz="1400" spc="-1" strike="noStrike">
                <a:solidFill>
                  <a:srgbClr val="000000"/>
                </a:solidFill>
                <a:latin typeface="Pea Missy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Pea Missy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learner.org/jnorth/images/imageshtml/earth-tilt.gif"/>
          <p:cNvPicPr/>
          <p:nvPr/>
        </p:nvPicPr>
        <p:blipFill>
          <a:blip r:embed="rId1"/>
          <a:stretch/>
        </p:blipFill>
        <p:spPr>
          <a:xfrm>
            <a:off x="228600" y="1674720"/>
            <a:ext cx="4800600" cy="3811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-538200" y="0"/>
            <a:ext cx="448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50"/>
                </a:solidFill>
                <a:latin typeface="Pea Faith Dots"/>
              </a:rPr>
              <a:t>Seasons</a:t>
            </a:r>
            <a:endParaRPr b="0" lang="en-US" sz="8800" spc="-1" strike="noStrike">
              <a:solidFill>
                <a:srgbClr val="000000"/>
              </a:solidFill>
              <a:latin typeface="Pea Missy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724280" y="762120"/>
            <a:ext cx="419112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ea Missy"/>
              </a:rPr>
              <a:t>The tilt of the Earth and the Earth’s location in its revolution around the Sun cause the season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c000"/>
                </a:solidFill>
                <a:latin typeface="Pea Missy"/>
              </a:rPr>
              <a:t>Whichever hemisphere is tilted towards the sun receives more direct rays than the hemisphere facing away from the sun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ea Missy"/>
              </a:rPr>
              <a:t>If it is winter in the northern hemisphere, it is summer in the southern hemisphere. It is always the opposite season in the 2 different hemispheres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  <a:p>
            <a:pPr>
              <a:lnSpc>
                <a:spcPct val="15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c000"/>
                </a:solidFill>
                <a:latin typeface="Pea Missy"/>
              </a:rPr>
              <a:t>The equator has very little change of seasons because it receives direct rays most of the year.</a:t>
            </a:r>
            <a:endParaRPr b="0" lang="en-US" sz="1500" spc="-1" strike="noStrike">
              <a:solidFill>
                <a:srgbClr val="000000"/>
              </a:solidFill>
              <a:latin typeface="Pea Miss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4:40:12Z</dcterms:created>
  <dc:creator>szonis</dc:creator>
  <dc:description/>
  <dc:language>en-US</dc:language>
  <cp:lastModifiedBy>Shannon Bell</cp:lastModifiedBy>
  <dcterms:modified xsi:type="dcterms:W3CDTF">2010-04-08T11:09:17Z</dcterms:modified>
  <cp:revision>46</cp:revision>
  <dc:subject/>
  <dc:title>Slide 1</dc:title>
</cp:coreProperties>
</file>